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EFD-B2E0-41C5-AD70-17C8D1F9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45C-75B8-4CCC-8E25-9D6A23B3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B85-2097-404F-80EC-CDC412C0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63A-4C6F-48A0-8F88-E6524B3B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C9E-9E8B-4702-BD94-FF3F76D9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571-9DAD-41EB-8FD8-9BFF307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15E-2807-4657-9115-3DA34639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6B1-6FB7-4AEF-A933-0AF2A136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DE0-8197-434D-8DF8-93425A4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81C-3A92-465D-9FA5-0DE372E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19C-3C33-4743-9D24-65E43BF5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397-A994-4D73-8D2A-2F39264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FD52-A9EC-4B7B-8759-7C7F0D6D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0"/>
          <a:ext cx="6858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0:11:13Z</dcterms:created>
  <dc:creator>claire</dc:creator>
  <dc:description/>
  <dc:language>en-US</dc:language>
  <cp:lastModifiedBy>claire</cp:lastModifiedBy>
  <dcterms:modified xsi:type="dcterms:W3CDTF">2004-05-05T10:11:33Z</dcterms:modified>
  <cp:revision>1</cp:revision>
  <dc:subject/>
  <dc:title>Présentation PowerPoint</dc:title>
</cp:coreProperties>
</file>